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8C62-2203-4759-B97D-645D08A4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9A2-24DA-4A91-809B-D6E598F7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844F7-5ED1-4B60-9E8E-A50F9773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46A6D-8C47-4073-BE4B-EC1037D5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F7A93-113C-4030-BA5A-2334E895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984EC-C4F7-40BB-865C-8933CE12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0A96D-0755-4FC4-8CF7-6429F18E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D1261-DCFC-47FD-BA90-3D3B143C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9A002-2E22-400A-9D95-B0DD5FA0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EFAA2-15D9-4986-A6EE-92C29B01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C0FEC-CAA7-4093-9E57-FC144A64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306DA-C44A-414D-98C0-0E9D2A12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523-2B0F-4D46-9FB9-B3AE292C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0CF5A-3773-4D49-83D2-C9E68A8F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20644-A100-404F-8AA7-1A6D7133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F44B6-0FFF-4FBF-8022-85955824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7B18F-BCC7-4C3D-9615-B94A759D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6C335-65A4-4E2A-80C2-DE618619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C9F5E-29B6-4364-80D8-7FA90B1D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DA077-DBF2-4F4C-9102-BBAB592D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BCDD6-6CAE-4CDC-86B9-10E2FA95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58AA5-100E-4C08-9B08-57DCB95D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2027A-F251-4EA6-B0BE-10EB6BBE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792-A3A0-48EA-8403-A6A229ED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89713-CE03-4C96-95BE-AB1A5E04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2D739-87E1-49D1-9EB8-0E4056FB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DD203-742E-4179-BBDF-4DAFEDFB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67CF3-5E10-4832-A991-C152B290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CA5C0-D188-4324-8736-EDB6D236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64275-8BC2-43AD-85D2-F7E2F582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10237-A79F-405D-9B57-F931472C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EF704-BB9A-4D2F-9F5A-261CF6E6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D5BD5-15AA-4B7E-B209-17AFC29D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DACD2-E0F4-43F5-9D11-1AC660AD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AA3F-911E-4709-90E7-5D12C52F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D31D0-7A42-4CE5-AFE9-F2C14D79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DFEB5-E4D5-44FD-944B-9C358954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FC74B-C799-4EF3-8276-A3E95B3D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5DE31-2974-4CAF-AA4D-28CCC8A3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AB8EC-7A4A-4298-9D59-591BBABA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346B8-BD20-4358-9DDE-82E9CEB9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BCA97-211B-4A26-8AE7-325AE22F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0BC64-8F09-4BB9-B3DF-81654B17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65DD4-A42E-45E6-905B-5154CB54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98848-2FC0-402F-82B0-900E233A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2DE2-CF91-49BD-B408-160E560E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EF6FA-838C-4E42-8E65-EC7492EE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AC237-6087-48A3-BBB3-B283E161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BB9C7-EEFF-41D1-A07C-B9A90120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8DA18-1FC8-44E9-9217-9234C39D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150AA-D67A-46A6-B122-1CD89BB6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A68C29-4007-4209-AA14-24C3C21A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2AC67-3F41-4A07-8590-284EF73F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B21A9-486A-49B7-8FD8-0EDB4EB6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8E5A9-330F-4354-A30E-DED142B8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25BF2-2EB4-4A96-B880-37198895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C886-A03D-4770-B710-C636933B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84783-26C3-4DEC-B5F8-7C4062A0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51DF00-746B-459D-A052-A5CF1167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1AB62-E10F-460D-AB72-E9C72F58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1A7B1-1808-4DC0-B67E-57F8C526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E6D12-B7F2-4C6D-9989-CA667106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24565-0F39-4A0E-8CE2-AA8459B6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22EAE-DC33-46B9-BB6F-09D2D619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CF1C-5687-486E-814F-B9A44ACD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4146-4B42-4D8B-BBD9-4EEA5D56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24CD-F180-4216-A1CB-A2477ED0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BDA8-CA10-4688-9146-DAFCF6B2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77A9-A2A1-45F5-88E5-9763EFE9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57F7-A1EB-44B1-9C0A-10BBE5B3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D90E-754E-4CAE-9970-E2D522CD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542F-4CF4-47BC-9551-7454CC9F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5C8E-F35D-4730-A5CF-C816A68B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2E20-A071-4CF9-B377-2326BB20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FA4CF-0E59-4D59-A976-0801C0C6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3662B-81F7-4EA9-AD98-09F32A49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1546D-A318-4AAE-9EB5-4848F36E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07B5C-1B3F-4C4C-985D-91AD3F12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4220D-EE35-424D-BDDC-68C62BE9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B47-36D7-4E66-A48E-DEB32A08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D123E-5D3B-472D-9FE5-DF6B4F25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BC62A-0ABA-46BE-8C36-EE4824EE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BF41-4A89-4E05-A938-C26D4808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8EF7D-0324-49F9-BF24-5176AE17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A3889-4BCF-4D0E-9205-99B5F058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A0FEA-9BEA-41AE-B344-421853F7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6A201-ECF6-4818-88C3-E28809F9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3BBEC-AB56-49D0-8FA9-D6047888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3995E-4884-4F22-B6C3-A3D16B0A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B5671-9BC2-4079-88D8-EA2867E9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A0E-F8EB-48E2-A564-E546C40A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4BBBB-20E2-4738-B1A9-4F20463F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B1FD1-D377-4732-A8AC-7A6DE2FC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0FA0A-70F7-4687-8C57-FB1D4D38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A80A6-76D1-49E8-B62F-A4D9E3BB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D298B-DD57-4D20-9708-EC854C29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B8E43-22EB-445E-A8D4-4547766E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613E0-9331-491F-B815-3780EBA3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60570-FDF0-4CC0-8B7A-12089340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BCD36-034E-4941-A012-5595059A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F44A4-1E16-4C04-A53F-836665F8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BDC-72D1-4739-858B-A8C08E9B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01DD2-D662-408A-A846-185517E8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9EFE3-277C-4A69-BAC5-0F0EB1B3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800A3-B018-46CB-8C62-2BDD7359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4819F-E33F-4A57-A05A-DB82C199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6647D-187A-4441-AD5B-3FAF5A1C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93FF6-3532-4835-8CAD-607EED4E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E298B-6413-4405-B3FB-B90A00FB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3FF67-90E8-4DAE-89DC-C3A3AE6A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7DCE4-E8D2-4E40-B25E-70AAE6A8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A9535-2BE5-4E29-AB37-1F874690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004-6FDB-428F-861E-9E840D07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A218A-983C-4601-BCC6-865D2A90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734E18-C7D0-426E-B90D-114D3E76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D512B-B73A-4284-AAF7-0FA3B7C8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76D94B-3041-40ED-A382-A828F6DC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216A6F-2C8D-4A09-A0F2-0FBCD864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19D4C2-632A-41CF-909F-8BC56E7C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579A27-A41F-41DA-B26B-A1C9DFC6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B1823B-DA67-42E0-A5AD-8BF64269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037A38-0F9C-4100-967A-376AE21A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92322C-83E6-4E15-9CAC-D5BD81BA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82F-BC2A-4ADC-9107-BC4EADBC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89C232-B9BB-4C87-BAA1-1DFD6AAC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BDE71E-12BB-49F6-9753-190AAC34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D0B1E2-E763-45DB-8FE9-3519EA6B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D999F-8ADD-48A6-92D3-E3BCFC4A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EA8E8-F3C7-4FCE-9B3F-4A96DF6C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74BB7-C6F4-49CC-8A8D-A5F04546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B4E2F-9A94-4933-99F6-4CD47759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956BF-51FB-4878-9987-3D97FD0D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B8993-9F73-4FB4-B3D6-9E9FEEE1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23881-42E5-44B4-A095-E93A3C67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B6E-15C1-4B6B-AD62-D6858FF2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03F27-382C-45EA-B3D0-6647D856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48D10-98CB-4F46-8D82-418D11F9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048C2-6CB6-437E-86D3-5AB7801F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5A09A-CDB7-464B-AAC0-187879D6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6C9D7-CBB5-4A1D-90F2-A89F2A47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0ED67-0EBD-4C3F-8AFF-FA2615F5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D53DB-5D36-40D1-B64B-586F12CB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95BCE-5CB6-4F5E-9FC9-0505FB02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AB5BB-3478-4B87-B112-A82506E5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86376-557D-4201-92B7-BC00E0C2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1436-DAFB-4B51-886F-108B95BB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9DCC4-AB15-4D4B-A9A0-2A99DA9E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D2B71-E0F1-42AF-9081-F0E4B86B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A9F45-4777-49A6-B665-7C93E2F0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AC501-BCBF-43B7-97E0-009DC593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9139D-D092-479E-B97E-D318867B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5FDE5-F8DC-4034-A9F1-E9F3720A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9C99E-3848-4078-828F-7846DA47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AA57D-D80D-449B-AC58-BBA30B19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A4AF3-6195-4AD6-AC6E-8E02C7BE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EF46E-EB72-41A0-87B4-91DF8C68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C773-A389-4AE8-936B-BA9065527C6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b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fb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de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2752-778E-4489-BE84-EE6C3A63B38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0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5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5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6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191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6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6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A126-0868-49E6-BD2B-D9C64A74A61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0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0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1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32DA-D251-47AE-865B-D63A3C3639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5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3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3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1C50-A426-4FD2-8097-2DEDF8C21A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375F-8902-4846-89BB-56B5298BA0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3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2C3A-4EE5-4C39-ABB3-243621FB89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b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fb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de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568E-5FB6-4363-9385-85A5E4BB229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0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2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2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2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4C81-765F-4348-A30F-7505A802542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8C1D-44EF-44C7-8916-DB585CF5DB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7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7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8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F4CA-EDCE-4329-B9B9-13C378A0AF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373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374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76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7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79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380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5222-24B6-4D9A-986C-6565DEE5CF3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6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6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9721-7F14-499D-ABA5-6FAF308A65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cc00"/>
                </a:solidFill>
                <a:latin typeface="Tahoma"/>
              </a:rPr>
              <a:t>Стекло</a:t>
            </a:r>
            <a:r>
              <a:rPr b="1" lang="ru-RU" sz="8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1" lang="en-US" sz="8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706" name="Picture 7" descr="31343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7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21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22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4" descr="DSC033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3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89488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9900"/>
                </a:solidFill>
                <a:latin typeface="Arial"/>
              </a:rPr>
              <a:t>Выполнил </a:t>
            </a:r>
            <a:br>
              <a:rPr sz="4800"/>
            </a:br>
            <a:r>
              <a:rPr b="1" i="1" lang="ru-RU" sz="4800" spc="-1" strike="noStrike">
                <a:solidFill>
                  <a:srgbClr val="ff9900"/>
                </a:solidFill>
                <a:latin typeface="Arial"/>
              </a:rPr>
              <a:t>ученик </a:t>
            </a:r>
            <a:r>
              <a:rPr b="1" i="1" lang="en-US" sz="4800" spc="-1" strike="noStrike">
                <a:solidFill>
                  <a:srgbClr val="ff9900"/>
                </a:solidFill>
                <a:latin typeface="Arial"/>
              </a:rPr>
              <a:t>8</a:t>
            </a:r>
            <a:r>
              <a:rPr b="1" i="1" lang="ru-RU" sz="4800" spc="-1" strike="noStrike">
                <a:solidFill>
                  <a:srgbClr val="ff9900"/>
                </a:solidFill>
                <a:latin typeface="Arial"/>
              </a:rPr>
              <a:t> «Г» класса</a:t>
            </a:r>
            <a:br>
              <a:rPr sz="4000"/>
            </a:b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Иржов Дмитри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cc00"/>
                </a:solidFill>
                <a:latin typeface="Tahoma"/>
              </a:rPr>
              <a:t>Стекло это…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427280" y="1844640"/>
            <a:ext cx="4716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кло — один из самых древних и, благодаря разнообразию своих свойств — универсальный в практике человека материал. Физико-химически — неорганическое вещество, твёрдое тело; структурно — аморфно, изотропно; агрегатно все виды стёкол — чрезвычайно вязкая переохлаждённая жидкость, достигающая стеклообразного состояния в процессе остывания со скоростью, достаточной для предотвращения кристаллизации расплавов, получаемых в заданных температурных пределах (от 300 до 2500 ºС), которые обусловлены оксидным, фторидным или фосфатным происхождением их состав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9" name="Picture 4" descr="256"/>
          <p:cNvPicPr/>
          <p:nvPr/>
        </p:nvPicPr>
        <p:blipFill>
          <a:blip r:embed="rId1"/>
          <a:stretch/>
        </p:blipFill>
        <p:spPr>
          <a:xfrm>
            <a:off x="250920" y="2276640"/>
            <a:ext cx="439416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75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5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d59241"/>
                </a:solidFill>
                <a:latin typeface="Tahoma"/>
              </a:rPr>
              <a:t>История стекл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-181440" y="1196640"/>
            <a:ext cx="5327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 сих пор не установлено достоверно, как и где впервые было получено стекло. Долгое время первенство в открытии стеклоделия признавалось за Египтом, чему несомненным свидетельством считались глазурованные стеклом фаянсовые плитки внутренних облицовок пирамиды Джессера (середина III тысячелетия до н. э.); к ещё более раннему периоду (первой династии фараонов) относятся находки фаянсовых украшений (см. выше), то есть стекло существовало в Египте уже 5 тысяч лет наза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гипетские стеклоделы плавили стекло на открытых очагах в глиняных мисках. Спёкшиеся куски бросали раскалёнными в воду, где они растрескивались, и эти обломки, так называемые фритты, растирались в пыль жерновами и снова плавилис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2" name="Picture 4" descr="Вторая половина 4 го века"/>
          <p:cNvPicPr/>
          <p:nvPr/>
        </p:nvPicPr>
        <p:blipFill>
          <a:blip r:embed="rId1"/>
          <a:stretch/>
        </p:blipFill>
        <p:spPr>
          <a:xfrm>
            <a:off x="5148360" y="1268280"/>
            <a:ext cx="3824280" cy="460872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8"/>
          <p:cNvSpPr/>
          <p:nvPr/>
        </p:nvSpPr>
        <p:spPr>
          <a:xfrm>
            <a:off x="5076720" y="595008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Древняя ваз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a3c1c"/>
                </a:solidFill>
                <a:latin typeface="Arial"/>
              </a:rPr>
              <a:t>Свойства стекл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46432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екло — неорганическое изотропное вещество, материал, известный и используемый с древнейших времён. Существует и в природной форме, в виде минералов (обсидиан — вулканическое стекло), но в практике — чаще всего, как продукт стеклоделия — одной из древнейших технологий в материальной культуре. Структурно — аморфное вещество, агрегатно относящееся к разряду — твёрдое тело. В практике присутствует огромное число модификаций, подразумевающих массу разнообразных утилитарных возможностей, определяющихся составом, структурой, химическими и физическими св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Picture 10" descr="62658_97"/>
          <p:cNvPicPr/>
          <p:nvPr/>
        </p:nvPicPr>
        <p:blipFill>
          <a:blip r:embed="rId1"/>
          <a:stretch/>
        </p:blipFill>
        <p:spPr>
          <a:xfrm>
            <a:off x="5003640" y="1484280"/>
            <a:ext cx="3672000" cy="25020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1" descr="puli"/>
          <p:cNvPicPr/>
          <p:nvPr/>
        </p:nvPicPr>
        <p:blipFill>
          <a:blip r:embed="rId2"/>
          <a:stretch/>
        </p:blipFill>
        <p:spPr>
          <a:xfrm>
            <a:off x="5076720" y="4149720"/>
            <a:ext cx="35989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55087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настоящее время разработаны материалы чрезвычайно широкого, поистине — универсального диапазона применения, чему служат и присущие изначально (например, прозрачность, отражательная способность, стойкость к агрессивным средам, красота и многие другие) и не свойственные ранее стеклу — синтезированные его качества (например — жаростойкость, прочность, биоактивность, управляемая электропроводность и т. д.). Различные виды стёкол используется во всех сферах человеческой деятельности: от строительства, изобразительного искусства, оптики, медицины — до измерительной техники, высоких технологий и космонавтики, авиации и военной техн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9" name="Picture 6" descr="glass"/>
          <p:cNvPicPr/>
          <p:nvPr/>
        </p:nvPicPr>
        <p:blipFill>
          <a:blip r:embed="rId1"/>
          <a:stretch/>
        </p:blipFill>
        <p:spPr>
          <a:xfrm>
            <a:off x="179280" y="3860640"/>
            <a:ext cx="4897440" cy="282924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7" descr="1"/>
          <p:cNvPicPr/>
          <p:nvPr/>
        </p:nvPicPr>
        <p:blipFill>
          <a:blip r:embed="rId2"/>
          <a:stretch/>
        </p:blipFill>
        <p:spPr>
          <a:xfrm>
            <a:off x="5364000" y="1844640"/>
            <a:ext cx="3618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cc99"/>
                </a:solidFill>
                <a:latin typeface="Times New Roman"/>
              </a:rPr>
              <a:t>Стеклообразующие веществ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стеклообразующим веществ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си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e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Ge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тори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AlF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7" descr="6"/>
          <p:cNvPicPr/>
          <p:nvPr/>
        </p:nvPicPr>
        <p:blipFill>
          <a:blip r:embed="rId1"/>
          <a:stretch/>
        </p:blipFill>
        <p:spPr>
          <a:xfrm>
            <a:off x="4211640" y="2133720"/>
            <a:ext cx="4753080" cy="38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500"/>
                            </p:stCondLst>
                            <p:childTnLst>
                              <p:par>
                                <p:cTn id="1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Garamond"/>
              </a:rPr>
              <a:t>Художественное стекло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140000" y="1125360"/>
            <a:ext cx="50036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Художественное стекло - очень давний промысел. Из стекла делали не только посуду, оконное стекло, линзы и другие утилитарные предметы, но и самые разные художественные издел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дувание стекла — операция, позволяющая из вязкого расплава получить различные формы — шары, вазы, бокал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жнейший рабочий инструмент стеклодува, его вдувальная трубка, это полая металлическая трубка длиной 1—1,5 м, на одну треть обшитая деревом и снабжённая на конце латунным мундштуком. Пользуясь трубкой, стеклодув набирает из печи расплавленное стекло, выдувает его в форме шара и формует. Готовое изделие отшибают от трубки на вилы и несут в отжигательную печь. Оставшийся от отшибания след (насадок, колпачок) приходится удалять шлифовко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26" name="Picture 4" descr="513640"/>
          <p:cNvPicPr/>
          <p:nvPr/>
        </p:nvPicPr>
        <p:blipFill>
          <a:blip r:embed="rId1"/>
          <a:stretch/>
        </p:blipFill>
        <p:spPr>
          <a:xfrm>
            <a:off x="179280" y="1125360"/>
            <a:ext cx="4105440" cy="25909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1" descr="904b6e03f2"/>
          <p:cNvPicPr/>
          <p:nvPr/>
        </p:nvPicPr>
        <p:blipFill>
          <a:blip r:embed="rId2"/>
          <a:stretch/>
        </p:blipFill>
        <p:spPr>
          <a:xfrm>
            <a:off x="179280" y="3789360"/>
            <a:ext cx="41054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950"/>
                            </p:stCondLst>
                            <p:childTnLst>
                              <p:par>
                                <p:cTn id="20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950"/>
                            </p:stCondLst>
                            <p:childTnLst>
                              <p:par>
                                <p:cTn id="20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950"/>
                            </p:stCondLst>
                            <p:childTnLst>
                              <p:par>
                                <p:cTn id="212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950"/>
                            </p:stCondLst>
                            <p:childTnLst>
                              <p:par>
                                <p:cTn id="2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950"/>
                            </p:stCondLst>
                            <p:childTnLst>
                              <p:par>
                                <p:cTn id="22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7f70f"/>
                </a:solidFill>
                <a:latin typeface="Arial Black"/>
              </a:rPr>
              <a:t>Виды стекол</a:t>
            </a:r>
            <a:endParaRPr b="1" lang="en-US" sz="6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590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зависимости от основного используемого стеклообразующего вещества, стекла бывают оксидными фторидными, сульфидными и т. д. Базовый метод получения силикатного стекла заключается в плавлении смеси кварцевого песка (Si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, соды (Na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и извести (CaO). В результате получается химический комплекс с составом Na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O*CaO*6Si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варцевое стекло получают плавлением кремнезёмистого сырья высокой чистоты (обычно кварцит, горный хрусталь), его химическая формула — Si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Кварцевое стекло может быть также природного происхождения, образующееся при попадании молнии в залежи кварцевого пес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тическое стекло — применяют для изготовления линз, призм, кювет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имико-лабораторное стекло — стекло, обладающее высокой химической и термической устойчивост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Picture 4" descr="orhideya"/>
          <p:cNvPicPr/>
          <p:nvPr/>
        </p:nvPicPr>
        <p:blipFill>
          <a:blip r:embed="rId1"/>
          <a:stretch/>
        </p:blipFill>
        <p:spPr>
          <a:xfrm>
            <a:off x="5651640" y="4437000"/>
            <a:ext cx="2952720" cy="2214720"/>
          </a:xfrm>
          <a:prstGeom prst="rect">
            <a:avLst/>
          </a:prstGeom>
          <a:ln w="0">
            <a:noFill/>
          </a:ln>
        </p:spPr>
      </p:pic>
      <p:sp>
        <p:nvSpPr>
          <p:cNvPr id="731" name="Text Box 6"/>
          <p:cNvSpPr/>
          <p:nvPr/>
        </p:nvSpPr>
        <p:spPr>
          <a:xfrm>
            <a:off x="5651640" y="4508640"/>
            <a:ext cx="29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ПТИЧЕСКОЕ  СТЕК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2" name="Picture 7" descr="000000013"/>
          <p:cNvPicPr/>
          <p:nvPr/>
        </p:nvPicPr>
        <p:blipFill>
          <a:blip r:embed="rId2"/>
          <a:stretch/>
        </p:blipFill>
        <p:spPr>
          <a:xfrm>
            <a:off x="5724360" y="1268280"/>
            <a:ext cx="2808360" cy="309744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9"/>
          <p:cNvSpPr/>
          <p:nvPr/>
        </p:nvSpPr>
        <p:spPr>
          <a:xfrm>
            <a:off x="5940360" y="3933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варцевое стек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9000"/>
                            </p:stCondLst>
                            <p:childTnLst>
                              <p:par>
                                <p:cTn id="261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8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7f70f"/>
                </a:solidFill>
                <a:latin typeface="Arial Black"/>
              </a:rPr>
              <a:t>Источники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28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аткая химическая энциклопед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ульц М. М., Мазурин О. В. «Современные представления о строении стёкол и их свойствах». Л.: Наука. 19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 И. Ожован. Топологические характеристики связей в окисных системах Si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Ge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и переходе стекло-жидкость. ЖЭТФ, 130 (5) 944—956 (200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Picture 7" descr="steklo-bear"/>
          <p:cNvPicPr/>
          <p:nvPr/>
        </p:nvPicPr>
        <p:blipFill>
          <a:blip r:embed="rId1"/>
          <a:stretch/>
        </p:blipFill>
        <p:spPr>
          <a:xfrm>
            <a:off x="4284720" y="2060640"/>
            <a:ext cx="46800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77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770" fill="hold"/>
                                        <p:tgtEl>
                                          <p:spTgt spid="7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5" dur="77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5:26:04Z</dcterms:created>
  <dc:creator>SamLab.ws</dc:creator>
  <dc:description/>
  <dc:language>en-US</dc:language>
  <cp:lastModifiedBy>Павел</cp:lastModifiedBy>
  <dcterms:modified xsi:type="dcterms:W3CDTF">2010-06-08T16:04:17Z</dcterms:modified>
  <cp:revision>12</cp:revision>
  <dc:subject/>
  <dc:title>Стекло </dc:title>
</cp:coreProperties>
</file>